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168-F693-426A-9859-B3417FCA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9520" y="9284760"/>
            <a:ext cx="29149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C6F9-A292-4C6E-BD9A-E61DBA9B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9284760"/>
            <a:ext cx="29145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9520" y="0"/>
            <a:ext cx="2914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o-RO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6400" y="4642920"/>
            <a:ext cx="49309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1999, the Intel Teach Program has helped over 4 million educators in more than 35 countr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oal of the Inte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se Foc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hemes of the Essentials Course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ing technology effectively in the classroom to promote 21st century ski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231840" indent="-2304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23E0-828A-44D9-91D2-15EFC7A5D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4934-82C7-4B3C-9AEA-02C4BE6C4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7148-5E0D-43CD-B766-7C45906CF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83FD-E03C-45E4-BE9C-C71375D4F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EAAA-D7E5-4B7A-B104-B8E28496E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68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68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1D86-B6F2-4AE5-80DC-CF36F84FC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974D-1DF1-46B9-A1CA-69BE9E4A5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A756-9EF8-4CA2-AE55-C13CA32C0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4599-FBB0-4DA3-A2DB-3DB57725C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841B-3BE5-4FBA-BE39-6B696DAA9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C374-32C8-4883-8A65-B55A0AEDA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1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188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7DB3-5004-4159-8ECB-C751CB42C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188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AB26-7701-4439-AB48-3390FAD58C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55520" y="6230880"/>
            <a:ext cx="5811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</a:t>
            </a: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1055520" y="6242040"/>
            <a:ext cx="6015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6776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Intel®Teach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  <a:ea typeface="Arial"/>
              </a:rPr>
              <a:t>–</a:t>
            </a:r>
            <a:br>
              <a:rPr sz="2800"/>
            </a:br>
            <a:r>
              <a:rPr b="1" lang="ro-RO" sz="2000" spc="-1" strike="noStrike">
                <a:solidFill>
                  <a:srgbClr val="ffffff"/>
                </a:solidFill>
                <a:latin typeface="Verdana"/>
                <a:ea typeface="Arial"/>
              </a:rPr>
              <a:t>Predarea în societatea cunoaşteri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59720" y="490680"/>
            <a:ext cx="1774800" cy="885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32080" y="63914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6183360"/>
            <a:ext cx="601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Copyright® 2006 Corporaţia Intel. Toate drepturile rezervate. Intel şi Intel Education sunt mărci sau mărci înregistrate ale Corporaţiei Intel sau ale filialelor sale în Statele Unite sau alte ţări.* Alte nume sau mărci pot fi reclamate ca proprietăţi ale terţilor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82680" y="4149720"/>
            <a:ext cx="8300880" cy="1176480"/>
          </a:xfrm>
          <a:prstGeom prst="rect">
            <a:avLst/>
          </a:prstGeom>
          <a:solidFill>
            <a:srgbClr val="0860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Modulul 2</a:t>
            </a: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Verdana"/>
              </a:rPr>
              <a:t>Planificarea unităţii de învăţar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Schimb de idei cu privire la întrebările–chei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ormaţi  perechi şi consultaţi-vă cu privire la primele schiţe ale întrebărilor-cheie ale curriculum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tilizaţi „Lista pentru planul unităţii de învăţare” şi “Grila de cerinţe pentru întrebările de generare a proiectelor” (CD, directorul Evaluarea proiectelor) pentru a formula un feedback pentru colegul dumneavoastră în legătură cu întrebările sa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Faceţi însemnări cu privire la ideile sugerate de colegul dumneavoastră în rubrica pentru comentarii din fişierul “Lista pentru planul unităţii de învăţare” pe care l-aţi salv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întrebările dvs. prin prisma feedback-ului primi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F58B-28EC-4023-8E78-A472F70B03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area integrată şi continuă stă la baza învăţării bazate pe proiec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cadrul unităţilor de învăţare bazată pe proiect, evaluarea ar trebui să fie planificată pentru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utiliza o varietate de strategii de evalu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include metode de evaluare pe tot parcursul procesului de instrui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 evalua obiectivele importante ale unităţii de învăţare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mplicarea elevilor în propria evalu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3301-3772-4768-8C54-243334E76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2.1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entru a implica elevii în procesul de evaluare, trebuie să le asiguraţi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iterii clare, comunicate de la înce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xemple şi sugestii pentru o activitate de calitate ridicat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oportunităţi de monitorizare a propriului prog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etode pentru oferirea unui feedback constructiv colegilor şi pentru incorporarea feedback-ului de la ceilalţi pentru a  îmbunătăţi activitatea propr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imp pentru reflecţie şi pentru îmbunătăţirea produselor activităţ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prijin în stabilirea unor obiective noi, pentru activităţile ulterioare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528C-927E-48FC-AFF2-DB16BDADF0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49280" y="1806480"/>
            <a:ext cx="81010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formative sunt evaluări continue, care au loc înainte şi în timpul unei unităţi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Evaluările sumative au loc la sfârşitul unei unităţi de învăţare sau al unui proiec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Explorarea evaluărilor formative şi sumativ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ecturaţi scopurile evaluării şi metodele de evaluare (2.1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metodele de evaluare pentru planul unităţii dvs. folosind resursele de la Evaluarea proiectelor (2.14-2.1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ccesaţi: </a:t>
            </a:r>
            <a:r>
              <a:rPr b="0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Assessing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Etichetaţi sau marcaţi pagina web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ăsaţi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Apăsaţi </a:t>
            </a:r>
            <a:r>
              <a:rPr b="1" lang="ro-RO" sz="1600" spc="-1" strike="noStrike">
                <a:solidFill>
                  <a:srgbClr val="0860a8"/>
                </a:solidFill>
                <a:latin typeface="Verdana"/>
              </a:rPr>
              <a:t>Assessment Strategie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9250-F031-472E-AAEC-6E9AE10205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3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Metode multiple de evaluar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Schiţarea  unui grafic de timp pentru evaluar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6-2.1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rmăriţi exemple de grafice de timp pentru evaluare (în directorul Portofolii de pe CD-ul cu resurse curriculare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 şi schiţaţi un grafic de timp pentru evaluarea elevil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E345-2187-47D9-81EF-C01A14179E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ntificarea cunoştinţelor anterioare ale elevilor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1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exemplele de prezentări pentru evaluarea iniţială din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Modulul 2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Activitatea 4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, de pe CD-ului cu resurse curricular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Opţional:) Pentru informaţii suplimentare, consultaţi resursa web Intel®Education. (2.18-2.19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Design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 u="sng">
                <a:solidFill>
                  <a:srgbClr val="0860a8"/>
                </a:solidFill>
                <a:uFillTx/>
                <a:latin typeface="Verdana"/>
              </a:rPr>
              <a:t>www.intel.com/education/AssessingProjects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0B86-AA6F-472D-B539-ACBFC01839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49280" y="2052720"/>
            <a:ext cx="8101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Planificarea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fişierul “Planificarea unei prezentări în vederea evaluării iniţiale” de pe CD, Modulul 2, Activitatea 4.</a:t>
            </a:r>
            <a:br>
              <a:rPr sz="1800"/>
            </a:b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iscutaţi întrebările cu un cole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Planificaţi conţinutul prezentării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3: Elaborarea  unei schiţ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reaţi o schiţă (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Outlin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 a conţinutului prezentării.</a:t>
            </a:r>
            <a:br>
              <a:rPr sz="18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entru sugestii, puteţi utiliza Ghidul de asistenţă Intel Education, de p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Salvaţi prezentarea în directorul Evaluare din portofoliul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4: Adăugaţi elementele de baz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legeţi formatul, schema de culori, animaţiile, tranziţi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B427-4CA5-4A05-8824-45D98A70F9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4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Crearea unui instrument de analiză a nevoilor de învăţare ale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5: Îmbunătăţirea 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cideţi în privinţa caracteristicilor de desig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dăugaţi hyperlink-ur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seraţi tabele şi liste pentru a organiza informaţi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seraţi scheme sau grafice pentru claritatea mesaj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Ghidul de asistenţă pentru sugestii de îmbunătăţire a designului prezentării dv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6: Verificarea prezentări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rificaţi-vă prezentarea, folosind lista de control de la pag. 2.23 din Manu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AACE-9118-4252-A413-0B42801EC2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49280" y="1531800"/>
            <a:ext cx="81010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Revizuirea modululu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trebările-cheie ale curriculumului încurajează elevii să utilizeze capacităţi de gândire de nivel superior, îi ajută să înţeleagă pe deplin conceptele esenţiale şi oferă o structură pentru organizarea informaţiei factuale. Întrebările-cheie ale curriculumului sunt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o întrebare esenţială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întrebările unităţii de învăţ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întrebări de conţinut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Evaluările pentru unităţile de învăţare bazată pe proiect ar trebui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fie incluse pe tot parcursul ciclului de învăţ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evalueze obiectivele importante ale unităţi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implice elevii în procesul de evalu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74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860a8"/>
                </a:solidFill>
                <a:latin typeface="Verdana"/>
              </a:rPr>
              <a:t>să utilizeze o varietate de instrumente de evaluare pentru analiza nevoilor de învăţare, încurajarea autonomiei şi colaborării, monitorizarea progresului, verificarea înţelegerii, încurajarea metacogniţiei, demonstrarea achiziţiilor învăţării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6B02-E553-42F7-A8C7-AD60C6D8F0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5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flecţie asupra propriei învăţăr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1531800"/>
            <a:ext cx="81010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Utilizarea </a:t>
            </a: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blog</a:t>
            </a: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-ulu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activităţilor, competenţelor şi abordărilor vizate în cadrul acestui modul şi consemnaţi ideile în blog-ul dv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blog-ul person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flectaţi asupra temelor principale din acest modu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276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860a8"/>
                </a:solidFill>
                <a:latin typeface="Verdana"/>
              </a:rPr>
              <a:t>Cum pot întrebările-cheie să contribuie la susţinerea procesului de învăţare al elevilor mei?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276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860a8"/>
                </a:solidFill>
                <a:latin typeface="Verdana"/>
              </a:rPr>
              <a:t>Cum îmi pot planifica evaluarea continuă centrată pe elev?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zumaţi ceea ce aţi învăţat în acest modu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Luaţi în considerare impactul celor învăţate asupra activităţii dvs. de predare şi asupra învăţării la elevi. Consemnaţi ideile, achiziţiile importante, precum şi întrebări sau eventuale aspecte difici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B8C5-3426-437A-ADF8-FF98288882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0578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e am studiat </a:t>
            </a:r>
            <a:r>
              <a:rPr b="1" lang="ro-RO" sz="2200" spc="-1" strike="noStrike">
                <a:solidFill>
                  <a:srgbClr val="0860a8"/>
                </a:solidFill>
                <a:latin typeface="Verdana"/>
              </a:rPr>
              <a:t>până acum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 ?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6560" y="2085840"/>
            <a:ext cx="8529480" cy="24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1: Predarea cu ajutorul proiectelor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	</a:t>
            </a: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văţarea bazată pe proiect</a:t>
            </a:r>
            <a:br>
              <a:rPr sz="2600"/>
            </a:br>
            <a:r>
              <a:rPr b="0" lang="ro-RO" sz="2600" spc="-1" strike="noStrike">
                <a:solidFill>
                  <a:srgbClr val="0c2e86"/>
                </a:solidFill>
                <a:latin typeface="Verdana"/>
                <a:ea typeface="Times New Roman"/>
              </a:rPr>
              <a:t>şi design-ul unităţii de învăţare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12747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3A81-BE2C-4C1F-A113-E7516FD8C6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– Activitatea 1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Extinderea capacităţii de a înţelege întrebările esenţiale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i de proiect pentru întrebarea esenţială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(prin </a:t>
            </a:r>
            <a:r>
              <a:rPr b="0" i="1" lang="ro-RO" sz="1800" spc="-1" strike="noStrike">
                <a:solidFill>
                  <a:srgbClr val="0860a8"/>
                </a:solidFill>
                <a:latin typeface="Verdana"/>
              </a:rPr>
              <a:t>brainstorming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) idei noi de proiecte pentru aceeaşi întrebare esenţială (2.26-2.2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şi discutaţi alte unităţi de învăţare care ar putea avea legătură cu întrebarea dvs. esenţială (2.2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Revizuirea întrebărilor-cheie ale curriculumului (opţional)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29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cerinţele, exemplele şi informaţiile privind întrebările-cheie ale curriculumulu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propriile întrebăr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ţi discuta întrebările dvs. cu colegii, în modulul următo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E952-C1E5-4D67-8541-2B3A9C1942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1360" y="633240"/>
            <a:ext cx="83692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Planificare în avans – Activitatea 2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Reanalizarea standardelor şi obiectivelor operaţional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3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Verificaţi standardele (competenţele specifice/ obiectivele de referinţă) şi obiectivele operaţionale din unitatea dvs.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grila de cerinţe pentru standarde şi obiectivele operaţionale de la pagina 2.3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justaţi standardele şi obiectivele operaţionale din unitatea dvs.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1AC8-1B22-4404-B727-25C5EC6512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800" y="0"/>
            <a:ext cx="823752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În continuare…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7080" y="4107960"/>
            <a:ext cx="8645400" cy="1868760"/>
          </a:xfrm>
          <a:prstGeom prst="rect">
            <a:avLst/>
          </a:prstGeom>
          <a:noFill/>
          <a:ln w="9360">
            <a:solidFill>
              <a:srgbClr val="aa014c"/>
            </a:solidFill>
            <a:miter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area esential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ate fi utilizat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eficient tehnologia pentru a sprijini si evalua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70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Intreb</a:t>
            </a: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1" lang="en-US" sz="1400" spc="-1" strike="noStrike">
                <a:solidFill>
                  <a:srgbClr val="0860a8"/>
                </a:solidFill>
                <a:latin typeface="Verdana"/>
              </a:rPr>
              <a:t>ri referitoare la modul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utiliza Internetul pentru a sprijini procesul meu de predare si procesul de 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î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nv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are al elevilor me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um pot asigura o utilizare responsabil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 si corespunz</a:t>
            </a:r>
            <a:r>
              <a:rPr b="0" lang="ro-RO" sz="1400" spc="-1" strike="noStrike">
                <a:solidFill>
                  <a:srgbClr val="0860a8"/>
                </a:solidFill>
                <a:latin typeface="Verdana"/>
              </a:rPr>
              <a:t>ă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oare a Internetului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28760"/>
          <a:ext cx="8610480" cy="3679560"/>
        </p:xfrm>
        <a:graphic>
          <a:graphicData uri="http://schemas.openxmlformats.org/drawingml/2006/table">
            <a:tbl>
              <a:tblPr/>
              <a:tblGrid>
                <a:gridCol w="2338560"/>
                <a:gridCol w="6271920"/>
              </a:tblGrid>
              <a:tr h="41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3: Realizarea conexiuni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unctul central:</a:t>
                      </a:r>
                      <a:r>
                        <a:rPr b="0" lang="en-US" sz="20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rnetul ca suport de pred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 si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t</a:t>
                      </a:r>
                      <a:r>
                        <a:rPr b="0" lang="en-US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Obiective: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crearea unui wiki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mp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ta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idei pentru atingerea standardelor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tr-o clas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centra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pe el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elegerea legilor copyright-ulu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(dreptul de autor)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ş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 utilizarea aceste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alizare documente cu lucr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 cit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Integrarea si utilizarea resurselor Internet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area, comunic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laborarea,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zolvarea problemelor pentru  dezvoltare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competenţelor pentru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secolul XXI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Utilizarea unei resurse de colaborare online pentru a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mp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tasi ide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eflec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ţie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asupra propriei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v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t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ă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ri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</a:t>
                      </a:r>
                      <a:r>
                        <a:rPr b="0" lang="en-US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n blogul </a:t>
                      </a:r>
                      <a:r>
                        <a:rPr b="0" lang="ro-RO" sz="16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7A52-5F99-47D2-A334-81381B6A01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82600" y="6472080"/>
            <a:ext cx="6472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2006 Intel Corporation. All rights reserved. Intel, Intel logo, Intel. Leap ahead., and Intel. Leap ahead. logo are trademarks or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registered trademarks of Intel Corporation or its subsidiaries in the United States and other countrie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086360" y="2987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41960" y="1576440"/>
            <a:ext cx="2263680" cy="1130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184400" y="1512720"/>
            <a:ext cx="2787480" cy="114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7944-A9A6-45AB-BF3E-0E4ECF6AC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35520" y="285840"/>
            <a:ext cx="82375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300320"/>
            <a:ext cx="4851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mputers are not magic. Teachers are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1800360" y="12351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034960" y="4902120"/>
            <a:ext cx="35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860a8"/>
                </a:solidFill>
                <a:latin typeface="Verdana"/>
              </a:rPr>
              <a:t>Craig Barrett, Preşedinte INT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9444-25F6-43A2-BA76-D5CA51FEA7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c2e86"/>
                </a:solidFill>
                <a:latin typeface="Verdana"/>
              </a:rPr>
              <a:t>Unde ne aflăm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2840" y="739800"/>
          <a:ext cx="8470800" cy="3871800"/>
        </p:xfrm>
        <a:graphic>
          <a:graphicData uri="http://schemas.openxmlformats.org/drawingml/2006/table">
            <a:tbl>
              <a:tblPr/>
              <a:tblGrid>
                <a:gridCol w="2415960"/>
                <a:gridCol w="60548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dul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l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: </a:t>
                      </a:r>
                      <a:r>
                        <a:rPr b="1" lang="ro-RO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lanificarea unităţii de învăţa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 w="5760">
                      <a:solidFill>
                        <a:srgbClr val="aa014c"/>
                      </a:solidFill>
                    </a:lnT>
                    <a:lnB>
                      <a:noFill/>
                    </a:lnB>
                    <a:solidFill>
                      <a:srgbClr val="aa014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Elementele centrale</a:t>
                      </a:r>
                      <a:r>
                        <a:rPr b="1" lang="en-US" sz="18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  <a:ea typeface="Times New Roman"/>
                        </a:rPr>
                        <a:t>Întrebările-cheie ale curriculumului şi evaluarea centrată pe ele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Re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ultate </a:t>
                      </a:r>
                      <a:r>
                        <a:rPr b="1" lang="ro-RO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aş</a:t>
                      </a:r>
                      <a:r>
                        <a:rPr b="1" lang="en-US" sz="16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teptat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standardelor </a:t>
                      </a:r>
                      <a:r>
                        <a:rPr b="0" lang="en-GB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urriculare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(obiective de referinţă sau competenţe specifice) pentru propria unitate de învăţ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obiectivelor operaţion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ormularea întrebărilor-cheie ale curriculumul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dentificarea un</a:t>
                      </a:r>
                      <a:r>
                        <a:rPr b="0" lang="en-GB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ei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 strategii de evaluare efic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Întocmirea graficului de evaluare al elevi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rea unei prezentări în vederea evaluării iniţ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• 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eflecţie asupra învăţării, în </a:t>
                      </a:r>
                      <a:r>
                        <a:rPr b="0" i="1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log</a:t>
                      </a:r>
                      <a:r>
                        <a:rPr b="0" lang="ro-RO" sz="18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-ul 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36600" indent="-336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014c"/>
                      </a:solidFill>
                    </a:lnL>
                    <a:lnR w="5760">
                      <a:solidFill>
                        <a:srgbClr val="aa014c"/>
                      </a:solidFill>
                    </a:lnR>
                    <a:lnT>
                      <a:noFill/>
                    </a:lnT>
                    <a:lnB w="5760">
                      <a:solidFill>
                        <a:srgbClr val="aa01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4280" y="4187520"/>
            <a:ext cx="8467920" cy="1809720"/>
          </a:xfrm>
          <a:prstGeom prst="rect">
            <a:avLst/>
          </a:prstGeom>
          <a:solidFill>
            <a:srgbClr val="ffffff"/>
          </a:solidFill>
          <a:ln w="9360">
            <a:solidFill>
              <a:srgbClr val="aa014c"/>
            </a:solidFill>
            <a:miter/>
          </a:ln>
        </p:spPr>
        <p:txBody>
          <a:bodyPr rIns="0" tIns="91440" bIns="9144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area esenţială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Cum poate fi utilizată cel mai eficient tehnologia pentru a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susţine şi pentru a evalua </a:t>
            </a:r>
            <a:r>
              <a:rPr b="0" lang="ro-RO" sz="1600" spc="-1" strike="noStrike">
                <a:solidFill>
                  <a:srgbClr val="0860a8"/>
                </a:solidFill>
                <a:latin typeface="Arial"/>
                <a:ea typeface="Times New Roman"/>
              </a:rPr>
              <a:t>procesul de învăţare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  <a:ea typeface="Times New Roman"/>
              </a:rPr>
              <a:t>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Întrebările modulului</a:t>
            </a:r>
            <a:r>
              <a:rPr b="1" lang="ro-RO" sz="1600" spc="-1" strike="noStrike">
                <a:solidFill>
                  <a:srgbClr val="0c2e86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2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întrebările-cheie ale curriculumului să susţină procesul de învăţare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2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Cum pot să planific evaluarea continuă centrată pe elev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8B71-B6FD-4361-AFC2-A491E94B31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3120" y="328680"/>
            <a:ext cx="4068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60a8"/>
                </a:solidFill>
                <a:latin typeface="Verdana"/>
              </a:rPr>
              <a:t>Ce vom stu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59480" y="14400"/>
            <a:ext cx="4484520" cy="5995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" y="1028520"/>
            <a:ext cx="441504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3: Realizarea conexiun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Utilizarea Internetului pentru susţinerea predării şi învăţă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4: Crearea unei aplicaţii din perspectiva elevului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ezentarea proiectului elevului (publicaţie, prezentare, wiki, blog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5: Evaluarea proiectelor elevilor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Evaluare formativă si sumativă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6: Planificare pentru succes în învăţar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Suport pentru învăţare şi autodirecţionare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7: Facilitare prin tehnologi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rofesorul ca facilitator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Modulul 8: Prezentarea portofoliilor unităţilor de învăţare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c2e86"/>
                </a:solidFill>
                <a:latin typeface="Verdana"/>
                <a:ea typeface="Times New Roman"/>
              </a:rPr>
              <a:t>Partajarea (împărtăşirea) învăţării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AE99-4F0A-40CB-B8A6-6221A7C7C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 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(2.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tr-un mediu de învăţare bazată pe proiect sau centrat pe elev, elevii trebuie să dovedească formarea competenţelor specifice, respectiv atingerea obiectivelor de referinţă cuprinse în programa şcolară, pr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plicarea noilor cunoştinţ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zolvarea de probleme specif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monstrarea faptului că au înţeles conţinutul de studiu.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EB93-5F52-4826-917A-A6A4252DE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Identificarea obiectivelor de referinţă/ competenţelor specific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Intraţi pe pagina web care conţine standardele curriculare (programele şcolare şi standardele de evaluare) pentru România - </a:t>
            </a:r>
            <a:r>
              <a:rPr b="0" lang="ro-RO" sz="1800" spc="-1" strike="noStrike" u="sng">
                <a:solidFill>
                  <a:srgbClr val="0860a8"/>
                </a:solidFill>
                <a:uFillTx/>
                <a:latin typeface="Verdana"/>
              </a:rPr>
              <a:t>http://www.edu.r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sau </a:t>
            </a:r>
            <a:r>
              <a:rPr b="0" lang="ro-RO" sz="1800" spc="-1" strike="noStrike" u="sng">
                <a:solidFill>
                  <a:srgbClr val="0860a8"/>
                </a:solidFill>
                <a:uFillTx/>
                <a:latin typeface="Verdana"/>
              </a:rPr>
              <a:t>http://cnc.ise.ro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Marcaţi sau etichetaţi pagina care cuprinde standardele curriculare pentru disciplina şi nivelul de studiu la care predaţ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opiaţi competenţele specifice/ obiectivele de referinţă pe care le veţi viza, în planul unităţii de învăţ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B108-A60B-4655-9441-A575DBC213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1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Standarde 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curriculare</a:t>
            </a: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 viza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49280" y="1762200"/>
            <a:ext cx="810108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Crearea obiectivelor operaţional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2 – 2.0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planul unităţii de învăţare, creaţi obiectivele operaţionale în concordanţă cu standardele identificate. </a:t>
            </a:r>
            <a:br>
              <a:rPr sz="1800"/>
            </a:b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Puteţi utiliza materialele suport indicate pe CD-ul cu resurse curriculare – Modulul 2, pagina </a:t>
            </a:r>
            <a:r>
              <a:rPr b="0" i="1" lang="ro-RO" sz="1600" spc="-1" strike="noStrike">
                <a:solidFill>
                  <a:srgbClr val="0860a8"/>
                </a:solidFill>
                <a:latin typeface="Verdana"/>
              </a:rPr>
              <a:t>Site-uri web în modulul 2</a:t>
            </a:r>
            <a:r>
              <a:rPr b="0" lang="ro-RO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Treceţi în revistă “Cerinţele pentru standarde  şi obiective” din Modulul 2, Activitatea 1 de pe CD-ul cu resurse curriculare (sau de la pagina 2.31 din manualul Intel Teach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Revizuiţi obiectivele, dacă este neces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2760-081F-4736-8A38-A295C7516E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1: Înţelegerea întrebărilor esenţiale, a întrebărilor de unitate şi a întrebărilor de conţinut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4 – 2.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Urmăriţi prezentarea despre întrebările-cheie ale curriculumului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ali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zaţi Grila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cerinţe pentru întrebările-chei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în 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ual, pg. 2.05 -2.06 sau pe CD, Modulul 2, Activitatea 2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ctivitate în grup: în echipe de câte 4, completaţi documentul „Întrebări de brainstorming” din Modulul 2, Activitatea 2, de pe CD-ul cu resursele curricula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C962-35CD-4561-BF71-6492256A52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1360" y="633240"/>
            <a:ext cx="83692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Activitatea 2:</a:t>
            </a:r>
            <a:br>
              <a:rPr sz="2600"/>
            </a:br>
            <a:r>
              <a:rPr b="0" lang="ro-RO" sz="2600" spc="-1" strike="noStrike">
                <a:solidFill>
                  <a:srgbClr val="0860a8"/>
                </a:solidFill>
                <a:latin typeface="Verdana"/>
              </a:rPr>
              <a:t>Dezvoltarea întrebărilor-cheie ale curriculumului, pentru implicarea elevilor</a:t>
            </a:r>
            <a:r>
              <a:rPr b="1" lang="ro-RO" sz="26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" y="2052720"/>
            <a:ext cx="810108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60a8"/>
                </a:solidFill>
                <a:latin typeface="Verdana"/>
              </a:rPr>
              <a:t>Pasul 2: Elaborarea întrebărilor pentru propria unitate</a:t>
            </a: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 (2.0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Citiţi sugestiile pentru elaborarea întrebărilor esenţiale (2.07-2.08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Analizaţi modelele de întrebări de pe CD: Modulul 2, Activitatea 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60a8"/>
                </a:solidFill>
                <a:latin typeface="Verdana"/>
              </a:rPr>
              <a:t>Deschideţi planul unităţii de învăţare şi elaboraţi întrebările-che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Analizaţi competenţele specifice/ obiectivele de referinţă şi vedeţi în ce fel acoperă  “idei importante”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În planul unităţii de învăţare, elaboraţi o primă schiţă a întrebărilor, utilizând şi “Grila cu cerinţe pentru întrebările-cheie ale curriculumului” (Manual: pag. 2.05-2.06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25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Salvaţi fişierul “Lista pentru planul de unitate de învăţare” din directorul </a:t>
            </a:r>
            <a:r>
              <a:rPr b="0" i="1" lang="ro-RO" sz="1700" spc="-1" strike="noStrike">
                <a:solidFill>
                  <a:srgbClr val="0860a8"/>
                </a:solidFill>
                <a:latin typeface="Verdana"/>
              </a:rPr>
              <a:t>Evaluarea Portofoliului </a:t>
            </a:r>
            <a:r>
              <a:rPr b="0" lang="ro-RO" sz="1700" spc="-1" strike="noStrike">
                <a:solidFill>
                  <a:srgbClr val="0860a8"/>
                </a:solidFill>
                <a:latin typeface="Verdana"/>
              </a:rPr>
              <a:t>de pe CD-ul cu resurse curriculare şi completaţi partea care se referă la întrebările-chei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60a8"/>
                </a:solidFill>
                <a:latin typeface="Verdana"/>
              </a:rPr>
              <a:t>Modulul 2 – Planificarea unităţii de învăţare</a:t>
            </a:r>
            <a:endParaRPr b="1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B83A-0B95-47A8-9CDC-CE7E9E4D0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Olimpius Istrate</cp:lastModifiedBy>
  <cp:lastPrinted>2006-11-14T00:45:04Z</cp:lastPrinted>
  <dcterms:modified xsi:type="dcterms:W3CDTF">2007-08-26T09:29:35Z</dcterms:modified>
  <cp:revision>479</cp:revision>
  <dc:subject/>
  <dc:title>Presentation Title Goes Here</dc:title>
</cp:coreProperties>
</file>